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FBF-3179-4B01-ACFC-8FD9E712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C6C-67C3-4651-9EA4-87DA8220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493-CB80-4ED4-8A40-BDA8A3A8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730-F3BC-4F13-AE89-B7083972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11BE-DE44-46EC-997F-34F5E9BE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F094-B0D6-49F9-9FE8-D520469A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DFCD-9C72-4249-965F-4771F2BD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6EB8-EF09-4813-A46C-F8047E4B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5FC3-377D-4940-A750-7CF4DF4F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A3DE-206E-40A3-9E1C-24028300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CEF6-C16D-4F46-AC2D-F89A4B45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2E4-CDB4-4A12-85A8-214D743D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936F-FD87-4763-B10D-223FECEB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AE13-5404-4F87-95F8-EAD7A130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5F67-784E-42E6-9681-67330225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41AD-1648-4B75-95FA-339DA6E5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308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24400" y="19807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308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24400" y="4090320"/>
            <a:ext cx="260064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CBC2-15B7-427D-A86F-FD31D403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383-1B83-42CA-9D3E-6C159744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2B3-A22E-46E4-B5E2-965749F0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9E9-54DA-46E9-A7E9-426523AD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1142640"/>
            <a:ext cx="8076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86F-255C-4528-A777-60236030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9CA-3DD9-4589-B6DB-CD0B6D4A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0680" y="40903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BE4-68C1-483A-9E8B-D76B6940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0680" y="1980720"/>
            <a:ext cx="394128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090320"/>
            <a:ext cx="80769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C63-EC3A-460E-91C5-A5D022CE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2"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3" marL="335880" indent="-335880"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4"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5"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6"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9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4840" y="617220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2EA4-CC06-47E7-94E4-B528089DC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1219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7621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2920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Impact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Futura Md BT"/>
              </a:rPr>
              <a:t>Click to edit the title text forma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2057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0384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2298-7C2D-43AC-A9A6-B8A68BD32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676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lick to edit the outline text format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  <a:p>
            <a:pPr lvl="1" marL="443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6680" algn="ctr">
              <a:spcBef>
                <a:spcPts val="49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0200" algn="ctr">
              <a:spcBef>
                <a:spcPts val="300"/>
              </a:spcBef>
              <a:buClr>
                <a:srgbClr val="0000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73720" algn="ctr">
              <a:spcBef>
                <a:spcPts val="249"/>
              </a:spcBef>
              <a:buClr>
                <a:srgbClr val="cc0000"/>
              </a:buClr>
              <a:buSzPct val="6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773720">
              <a:spcBef>
                <a:spcPts val="24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2742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Futura Md BT"/>
              </a:rPr>
              <a:t>Anatomy of a Multimedia Project</a:t>
            </a:r>
            <a:endParaRPr b="0" lang="en-US" sz="48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Times New Roman"/>
              </a:rPr>
              <a:t>Chapter 12</a:t>
            </a:r>
            <a:endParaRPr b="1" lang="en-US" sz="80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ducing the Application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ollowing the user interface design, text, sounds, and images are incorporated into pages or screen display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Testing the Application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application is tested to ensure that the sections work together correctly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ha testing involves testing sections as the producer finish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all sections are complete, the entire application is tes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large application may also be beta test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fining a Projec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everal steps are required to define a multimedia project. They ar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with the client to determine the project’s budget and dead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project’s overall purpose and specific 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the audience who will use or view the ap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how the application will be deliver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echnical and content 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Project Design Phas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fter the team has analyzed the application’s objectives, audience, and requirements, the project enters the design phase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What is a project plan?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project plan generally specifies the project’s scope, its personnel and other resource requirements, its schedule, and its budget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fining Project Scop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3962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he team sets priorities and collaborates about: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pplication’s cont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pplication’s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ardware and software it will invol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952880" y="1981080"/>
            <a:ext cx="3962520" cy="336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fining the Project Schedul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41907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With input from the team, the project manager draws up a schedule for developing the application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44956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signing the User Interface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user interface designer creates a navigation map. Navigation schemes can be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a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chica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linea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sit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Developing an Application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nce the project plan is approved, the team begins creating the application. This includ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ten cont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o and visual cont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Futura Md BT"/>
              </a:rPr>
              <a:t>Creating Application Content</a:t>
            </a:r>
            <a:endParaRPr b="0" lang="en-US" sz="4000" spc="-1" strike="noStrike">
              <a:solidFill>
                <a:srgbClr val="000099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is includes: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the text for the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ng, creating, and editing the audio and visual components of the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instructions for using the ap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9:36:22Z</dcterms:created>
  <dc:creator>Danielle Perkins</dc:creator>
  <dc:description/>
  <dc:language>en-US</dc:language>
  <cp:lastModifiedBy>GLENCOE</cp:lastModifiedBy>
  <dcterms:modified xsi:type="dcterms:W3CDTF">2003-01-04T01:54:27Z</dcterms:modified>
  <cp:revision>11</cp:revision>
  <dc:subject/>
  <dc:title>Chapter 12Anatomy of a Multimedia Project</dc:title>
</cp:coreProperties>
</file>